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8AA-38B1-4DBD-B68C-034EF7AB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FC6-7E8D-4EE9-8DD6-AEC33A5D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691-287D-4992-91F1-C06CDEA0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FBD-22F5-4B89-BDC2-6287456A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C48-682E-432A-85E8-99435FF3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7E2-6FC4-4526-9016-4A6B9843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891-BDC4-479F-8C13-A42DF397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539-C96A-4501-82BF-E01C4BAA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D22-94E4-4E6F-8B61-EC7F8BA6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22F-D41A-49FD-AE37-C0D0506A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141-90C3-46A2-9D5E-9872A6E5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800-C4E8-46A1-8D28-EE06AEB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8D23-61CD-43F3-B9AB-44806B274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14480" y="2162160"/>
            <a:ext cx="4581360" cy="3362040"/>
            <a:chOff x="1914480" y="2162160"/>
            <a:chExt cx="4581360" cy="3362040"/>
          </a:xfrm>
        </p:grpSpPr>
        <p:sp>
          <p:nvSpPr>
            <p:cNvPr id="42" name=""/>
            <p:cNvSpPr/>
            <p:nvPr/>
          </p:nvSpPr>
          <p:spPr>
            <a:xfrm>
              <a:off x="1914480" y="2162160"/>
              <a:ext cx="4581360" cy="336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6520" y="2404800"/>
              <a:ext cx="3657600" cy="2390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41600" y="47955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0" y="44924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41600" y="42019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41600" y="38970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41600" y="36064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41600" y="33033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41600" y="30002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41600" y="27082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41600" y="24048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576520" y="4795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90680" y="4795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794040" y="4795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410000" y="4795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013360" y="4795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29320" y="4795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234120" y="4795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76520" y="2793960"/>
              <a:ext cx="614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0680" y="2793960"/>
              <a:ext cx="60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94040" y="2793960"/>
              <a:ext cx="615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0000" y="2793960"/>
              <a:ext cx="60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13360" y="2793960"/>
              <a:ext cx="615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76520" y="2793960"/>
              <a:ext cx="614160" cy="5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90680" y="3387600"/>
              <a:ext cx="603360" cy="41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4040" y="3800160"/>
              <a:ext cx="61596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10000" y="4092480"/>
              <a:ext cx="60336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13360" y="4322520"/>
              <a:ext cx="6159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41600" y="2757240"/>
              <a:ext cx="6984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55760" y="2757240"/>
              <a:ext cx="6984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62360" y="2757240"/>
              <a:ext cx="6660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45" y="46"/>
                  </a:lnTo>
                  <a:lnTo>
                    <a:pt x="0" y="4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76520" y="275724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79880" y="275724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95840" y="275724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41600" y="2757240"/>
              <a:ext cx="698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55760" y="3350880"/>
              <a:ext cx="698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62360" y="3763800"/>
              <a:ext cx="666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76520" y="4055760"/>
              <a:ext cx="684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79880" y="4286160"/>
              <a:ext cx="684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95840" y="4456080"/>
              <a:ext cx="68400" cy="72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01480" y="47116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01480" y="440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01480" y="41162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01480" y="3813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01480" y="3520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15600" y="3217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7560" y="291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47560" y="2624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47560" y="232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84000" y="49053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9960" y="49053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68040" y="4905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84000" y="4905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88800" y="4905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03320" y="4905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08120" y="4905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00320" y="51591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lation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2014920" y="351108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14480" y="2162160"/>
              <a:ext cx="4581360" cy="336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08480" y="3741480"/>
              <a:ext cx="12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3560" y="2952720"/>
              <a:ext cx="12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out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752480" y="2338560"/>
            <a:ext cx="4581360" cy="3376440"/>
            <a:chOff x="1752480" y="2338560"/>
            <a:chExt cx="4581360" cy="3376440"/>
          </a:xfrm>
        </p:grpSpPr>
        <p:sp>
          <p:nvSpPr>
            <p:cNvPr id="104" name=""/>
            <p:cNvSpPr/>
            <p:nvPr/>
          </p:nvSpPr>
          <p:spPr>
            <a:xfrm>
              <a:off x="1752480" y="2338560"/>
              <a:ext cx="4581360" cy="33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5040" y="2583000"/>
              <a:ext cx="3637080" cy="2400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01920" y="498312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01920" y="46418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1920" y="430056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01920" y="395928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01920" y="36068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01920" y="326556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01920" y="292428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01920" y="258300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435040" y="4983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038400" y="4983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651120" y="4983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252680" y="4983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856040" y="4983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470560" y="4983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072120" y="4983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35040" y="4776840"/>
              <a:ext cx="60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38400" y="4776840"/>
              <a:ext cx="61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1120" y="4776840"/>
              <a:ext cx="601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52680" y="4776840"/>
              <a:ext cx="60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56040" y="4776840"/>
              <a:ext cx="61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435040" y="4581000"/>
              <a:ext cx="60336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038400" y="4312800"/>
              <a:ext cx="61272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651120" y="3948120"/>
              <a:ext cx="60156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252680" y="3471480"/>
              <a:ext cx="60336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856040" y="2825280"/>
              <a:ext cx="61452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01920" y="4740120"/>
              <a:ext cx="666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3480" y="4740120"/>
              <a:ext cx="6804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16200" y="474012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19560" y="4740120"/>
              <a:ext cx="6804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74012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37080" y="474012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01920" y="4740120"/>
              <a:ext cx="666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03480" y="4545000"/>
              <a:ext cx="680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16200" y="4276800"/>
              <a:ext cx="684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19560" y="3911760"/>
              <a:ext cx="68040" cy="72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22560" y="3435480"/>
              <a:ext cx="68400" cy="72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37080" y="2789280"/>
              <a:ext cx="684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74480" y="489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8040" y="45561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8040" y="42148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8040" y="38750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8040" y="35211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8040" y="31798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38040" y="28386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8040" y="24969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43960" y="509256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45520" y="509256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25120" y="50925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28120" y="50925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31480" y="50925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44200" y="50925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7560" y="50925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2000" y="5348160"/>
              <a:ext cx="890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flation R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519200" y="3678480"/>
              <a:ext cx="95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tal Tax Pai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2338560"/>
              <a:ext cx="4581360" cy="33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01880" y="3081240"/>
              <a:ext cx="119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49640" y="4424400"/>
              <a:ext cx="11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out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341440" y="1879560"/>
            <a:ext cx="4460760" cy="3324240"/>
            <a:chOff x="2341440" y="1879560"/>
            <a:chExt cx="4460760" cy="3324240"/>
          </a:xfrm>
        </p:grpSpPr>
        <p:sp>
          <p:nvSpPr>
            <p:cNvPr id="164" name=""/>
            <p:cNvSpPr/>
            <p:nvPr/>
          </p:nvSpPr>
          <p:spPr>
            <a:xfrm>
              <a:off x="2341440" y="1879560"/>
              <a:ext cx="4460760" cy="33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90960" y="2082960"/>
              <a:ext cx="3558960" cy="2512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60720" y="459576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60720" y="41799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0720" y="37544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60720" y="33386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0720" y="292428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0720" y="249696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60720" y="20829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09096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53700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8304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42908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87512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31180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5784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20388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649920" y="459576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90960" y="2496960"/>
              <a:ext cx="4460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37000" y="2801880"/>
              <a:ext cx="44604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83040" y="3095640"/>
              <a:ext cx="4460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29080" y="3400560"/>
              <a:ext cx="44604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75120" y="3693960"/>
              <a:ext cx="43668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11800" y="3997440"/>
              <a:ext cx="44604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7840" y="4290840"/>
              <a:ext cx="4460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3880" y="4595760"/>
              <a:ext cx="446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49920" y="459576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90960" y="2496960"/>
              <a:ext cx="446040" cy="598680"/>
            </a:xfrm>
            <a:custGeom>
              <a:avLst/>
              <a:gdLst/>
              <a:ahLst/>
              <a:rect l="l" t="t" r="r" b="b"/>
              <a:pathLst>
                <a:path w="281" h="377">
                  <a:moveTo>
                    <a:pt x="0" y="0"/>
                  </a:moveTo>
                  <a:lnTo>
                    <a:pt x="71" y="96"/>
                  </a:lnTo>
                  <a:lnTo>
                    <a:pt x="141" y="192"/>
                  </a:lnTo>
                  <a:lnTo>
                    <a:pt x="211" y="288"/>
                  </a:lnTo>
                  <a:lnTo>
                    <a:pt x="281" y="3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37000" y="3095640"/>
              <a:ext cx="446040" cy="436680"/>
            </a:xfrm>
            <a:custGeom>
              <a:avLst/>
              <a:gdLst/>
              <a:ahLst/>
              <a:rect l="l" t="t" r="r" b="b"/>
              <a:pathLst>
                <a:path w="281" h="275">
                  <a:moveTo>
                    <a:pt x="0" y="0"/>
                  </a:moveTo>
                  <a:lnTo>
                    <a:pt x="71" y="77"/>
                  </a:lnTo>
                  <a:lnTo>
                    <a:pt x="141" y="147"/>
                  </a:lnTo>
                  <a:lnTo>
                    <a:pt x="211" y="217"/>
                  </a:lnTo>
                  <a:lnTo>
                    <a:pt x="281" y="2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83040" y="3532320"/>
              <a:ext cx="446040" cy="303120"/>
            </a:xfrm>
            <a:custGeom>
              <a:avLst/>
              <a:gdLst/>
              <a:ahLst/>
              <a:rect l="l" t="t" r="r" b="b"/>
              <a:pathLst>
                <a:path w="281" h="191">
                  <a:moveTo>
                    <a:pt x="0" y="0"/>
                  </a:moveTo>
                  <a:lnTo>
                    <a:pt x="71" y="57"/>
                  </a:lnTo>
                  <a:lnTo>
                    <a:pt x="141" y="102"/>
                  </a:lnTo>
                  <a:lnTo>
                    <a:pt x="281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29080" y="3835440"/>
              <a:ext cx="446040" cy="212760"/>
            </a:xfrm>
            <a:custGeom>
              <a:avLst/>
              <a:gdLst/>
              <a:ahLst/>
              <a:rect l="l" t="t" r="r" b="b"/>
              <a:pathLst>
                <a:path w="281" h="134">
                  <a:moveTo>
                    <a:pt x="0" y="0"/>
                  </a:moveTo>
                  <a:lnTo>
                    <a:pt x="71" y="38"/>
                  </a:lnTo>
                  <a:lnTo>
                    <a:pt x="141" y="70"/>
                  </a:lnTo>
                  <a:lnTo>
                    <a:pt x="281" y="1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5120" y="4048200"/>
              <a:ext cx="436680" cy="162000"/>
            </a:xfrm>
            <a:custGeom>
              <a:avLst/>
              <a:gdLst/>
              <a:ahLst/>
              <a:rect l="l" t="t" r="r" b="b"/>
              <a:pathLst>
                <a:path w="275" h="102">
                  <a:moveTo>
                    <a:pt x="0" y="0"/>
                  </a:moveTo>
                  <a:lnTo>
                    <a:pt x="134" y="58"/>
                  </a:lnTo>
                  <a:lnTo>
                    <a:pt x="275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11800" y="4210200"/>
              <a:ext cx="446040" cy="112680"/>
            </a:xfrm>
            <a:custGeom>
              <a:avLst/>
              <a:gdLst/>
              <a:ahLst/>
              <a:rect l="l" t="t" r="r" b="b"/>
              <a:pathLst>
                <a:path w="281" h="71">
                  <a:moveTo>
                    <a:pt x="0" y="0"/>
                  </a:moveTo>
                  <a:lnTo>
                    <a:pt x="140" y="39"/>
                  </a:lnTo>
                  <a:lnTo>
                    <a:pt x="281" y="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57840" y="4322880"/>
              <a:ext cx="446040" cy="69840"/>
            </a:xfrm>
            <a:custGeom>
              <a:avLst/>
              <a:gdLst/>
              <a:ahLst/>
              <a:rect l="l" t="t" r="r" b="b"/>
              <a:pathLst>
                <a:path w="281" h="44">
                  <a:moveTo>
                    <a:pt x="0" y="0"/>
                  </a:moveTo>
                  <a:lnTo>
                    <a:pt x="140" y="25"/>
                  </a:lnTo>
                  <a:lnTo>
                    <a:pt x="281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03880" y="4392720"/>
              <a:ext cx="446040" cy="61920"/>
            </a:xfrm>
            <a:custGeom>
              <a:avLst/>
              <a:gdLst/>
              <a:ahLst/>
              <a:rect l="l" t="t" r="r" b="b"/>
              <a:pathLst>
                <a:path w="281" h="39">
                  <a:moveTo>
                    <a:pt x="0" y="0"/>
                  </a:moveTo>
                  <a:lnTo>
                    <a:pt x="140" y="19"/>
                  </a:lnTo>
                  <a:lnTo>
                    <a:pt x="281" y="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90960" y="2496960"/>
              <a:ext cx="446040" cy="527400"/>
            </a:xfrm>
            <a:custGeom>
              <a:avLst/>
              <a:gdLst/>
              <a:ahLst/>
              <a:rect l="l" t="t" r="r" b="b"/>
              <a:pathLst>
                <a:path w="281" h="332">
                  <a:moveTo>
                    <a:pt x="0" y="0"/>
                  </a:moveTo>
                  <a:lnTo>
                    <a:pt x="71" y="83"/>
                  </a:lnTo>
                  <a:lnTo>
                    <a:pt x="141" y="173"/>
                  </a:lnTo>
                  <a:lnTo>
                    <a:pt x="211" y="256"/>
                  </a:lnTo>
                  <a:lnTo>
                    <a:pt x="281" y="3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37000" y="3024360"/>
              <a:ext cx="446040" cy="395280"/>
            </a:xfrm>
            <a:custGeom>
              <a:avLst/>
              <a:gdLst/>
              <a:ahLst/>
              <a:rect l="l" t="t" r="r" b="b"/>
              <a:pathLst>
                <a:path w="281" h="249">
                  <a:moveTo>
                    <a:pt x="0" y="0"/>
                  </a:moveTo>
                  <a:lnTo>
                    <a:pt x="71" y="71"/>
                  </a:lnTo>
                  <a:lnTo>
                    <a:pt x="141" y="134"/>
                  </a:lnTo>
                  <a:lnTo>
                    <a:pt x="281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83040" y="3419640"/>
              <a:ext cx="446040" cy="295200"/>
            </a:xfrm>
            <a:custGeom>
              <a:avLst/>
              <a:gdLst/>
              <a:ahLst/>
              <a:rect l="l" t="t" r="r" b="b"/>
              <a:pathLst>
                <a:path w="281" h="186">
                  <a:moveTo>
                    <a:pt x="0" y="0"/>
                  </a:moveTo>
                  <a:lnTo>
                    <a:pt x="71" y="51"/>
                  </a:lnTo>
                  <a:lnTo>
                    <a:pt x="141" y="103"/>
                  </a:lnTo>
                  <a:lnTo>
                    <a:pt x="281" y="1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9080" y="3714840"/>
              <a:ext cx="446040" cy="222120"/>
            </a:xfrm>
            <a:custGeom>
              <a:avLst/>
              <a:gdLst/>
              <a:ahLst/>
              <a:rect l="l" t="t" r="r" b="b"/>
              <a:pathLst>
                <a:path w="281" h="140">
                  <a:moveTo>
                    <a:pt x="0" y="0"/>
                  </a:moveTo>
                  <a:lnTo>
                    <a:pt x="141" y="76"/>
                  </a:lnTo>
                  <a:lnTo>
                    <a:pt x="281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75120" y="3936960"/>
              <a:ext cx="436680" cy="162000"/>
            </a:xfrm>
            <a:custGeom>
              <a:avLst/>
              <a:gdLst/>
              <a:ahLst/>
              <a:rect l="l" t="t" r="r" b="b"/>
              <a:pathLst>
                <a:path w="275" h="102">
                  <a:moveTo>
                    <a:pt x="0" y="0"/>
                  </a:moveTo>
                  <a:lnTo>
                    <a:pt x="134" y="57"/>
                  </a:lnTo>
                  <a:lnTo>
                    <a:pt x="275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11800" y="4098960"/>
              <a:ext cx="446040" cy="122040"/>
            </a:xfrm>
            <a:custGeom>
              <a:avLst/>
              <a:gdLst/>
              <a:ahLst/>
              <a:rect l="l" t="t" r="r" b="b"/>
              <a:pathLst>
                <a:path w="281" h="77">
                  <a:moveTo>
                    <a:pt x="0" y="0"/>
                  </a:moveTo>
                  <a:lnTo>
                    <a:pt x="140" y="38"/>
                  </a:lnTo>
                  <a:lnTo>
                    <a:pt x="281" y="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57840" y="4221000"/>
              <a:ext cx="446040" cy="90720"/>
            </a:xfrm>
            <a:custGeom>
              <a:avLst/>
              <a:gdLst/>
              <a:ahLst/>
              <a:rect l="l" t="t" r="r" b="b"/>
              <a:pathLst>
                <a:path w="281" h="57">
                  <a:moveTo>
                    <a:pt x="0" y="0"/>
                  </a:moveTo>
                  <a:lnTo>
                    <a:pt x="140" y="32"/>
                  </a:lnTo>
                  <a:lnTo>
                    <a:pt x="281" y="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03880" y="4311720"/>
              <a:ext cx="4460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90960" y="2496960"/>
              <a:ext cx="4460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37000" y="2801880"/>
              <a:ext cx="44604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83040" y="3308400"/>
              <a:ext cx="44604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29080" y="3683160"/>
              <a:ext cx="4460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5120" y="3936960"/>
              <a:ext cx="43668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11800" y="4129200"/>
              <a:ext cx="44604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57840" y="4311720"/>
              <a:ext cx="4460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3880" y="4505400"/>
              <a:ext cx="446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49120" y="452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6000" y="4110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6000" y="36831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36000" y="3268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36000" y="2852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5520" y="24271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75520" y="20113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6036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0640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5244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9848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4452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8120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2724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328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1932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1040" y="490068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2151000" y="323712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k value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41440" y="1879560"/>
              <a:ext cx="4460760" cy="3324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62560" y="2962440"/>
              <a:ext cx="42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19480" y="31147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86200" y="3152880"/>
              <a:ext cx="6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C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43160" y="3305160"/>
              <a:ext cx="7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48160" y="3629160"/>
              <a:ext cx="65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38400" y="3800520"/>
              <a:ext cx="3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09840" y="3305160"/>
              <a:ext cx="6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00440" y="347652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1876320" y="2378160"/>
            <a:ext cx="4581360" cy="3273480"/>
            <a:chOff x="1876320" y="2378160"/>
            <a:chExt cx="4581360" cy="3273480"/>
          </a:xfrm>
        </p:grpSpPr>
        <p:sp>
          <p:nvSpPr>
            <p:cNvPr id="243" name=""/>
            <p:cNvSpPr/>
            <p:nvPr/>
          </p:nvSpPr>
          <p:spPr>
            <a:xfrm>
              <a:off x="1876320" y="2378160"/>
              <a:ext cx="4581360" cy="327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7200" y="2614680"/>
              <a:ext cx="3700440" cy="2340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90840" y="49546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90840" y="45640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90840" y="41752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90840" y="37846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0840" y="33955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90840" y="30034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90840" y="26146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527200" y="4954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270240" y="4954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11480" y="4954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743360" y="4954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484600" y="49543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227640" y="4954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25760" y="290052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5600" y="2898720"/>
              <a:ext cx="0" cy="71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5600" y="3616200"/>
              <a:ext cx="6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268080" y="3618000"/>
              <a:ext cx="180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0240" y="3841560"/>
              <a:ext cx="18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54200" y="3841560"/>
              <a:ext cx="180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09800" y="3960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52760" y="3957480"/>
              <a:ext cx="8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302000" y="3957480"/>
              <a:ext cx="144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00560" y="4056120"/>
              <a:ext cx="52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25800" y="4054320"/>
              <a:ext cx="180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25800" y="4135320"/>
              <a:ext cx="374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196960" y="4138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94080" y="4175280"/>
              <a:ext cx="4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63400" y="4870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59720" y="4481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59720" y="4091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59720" y="3701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59720" y="3311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59720" y="2922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59720" y="2533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90480" y="5060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64760" y="5060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06000" y="5060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38600" y="5060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79120" y="5060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22160" y="5060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28080" y="5308560"/>
              <a:ext cx="138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Invest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1994040" y="36997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6320" y="2378160"/>
              <a:ext cx="4581360" cy="3273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7120" y="3801960"/>
              <a:ext cx="0" cy="11588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41640" y="4394160"/>
              <a:ext cx="130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ital Budg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573440" y="4653000"/>
              <a:ext cx="54936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522520" y="4054320"/>
              <a:ext cx="19908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8320" y="4321080"/>
              <a:ext cx="1308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portunity Cost of 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611080" y="4110120"/>
              <a:ext cx="361800" cy="2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8:47:04Z</dcterms:created>
  <dc:creator>Frank</dc:creator>
  <dc:description/>
  <dc:language>en-US</dc:language>
  <cp:lastModifiedBy>frank crundwell</cp:lastModifiedBy>
  <dcterms:modified xsi:type="dcterms:W3CDTF">2007-08-16T16:48:20Z</dcterms:modified>
  <cp:revision>19</cp:revision>
  <dc:subject/>
  <dc:title>PowerPoint Presentation</dc:title>
</cp:coreProperties>
</file>